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D5A-06A6-4AAF-ACC7-4B4F655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D41-E7EB-4F98-A163-064D04A1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C48-7D2D-495C-8C10-ACB88C02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F7B-0CB8-4D10-8893-C727778E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B66-525B-42D8-A84C-F5443675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EC1-482F-48DF-89F3-6BD6224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05E-DE5A-4BA7-8E6A-FE0758C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009-B665-4BA1-A80B-07B52B94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2F1-F9D1-4D43-BA83-F4D1AB1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5B9-8A75-4532-88B5-2085519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489-7B5B-4657-9FF0-994CC82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716-EA3F-441C-A6DF-57A4CB2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AFC-0EE9-4809-B479-CC2E54B1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3:53:36Z</dcterms:created>
  <dc:creator>HP Authorized Customer</dc:creator>
  <dc:description/>
  <dc:language>en-US</dc:language>
  <cp:lastModifiedBy>HP Authorized Customer</cp:lastModifiedBy>
  <dcterms:modified xsi:type="dcterms:W3CDTF">2008-01-25T03:53:36Z</dcterms:modified>
  <cp:revision>1</cp:revision>
  <dc:subject/>
  <dc:title>Slide 1</dc:title>
</cp:coreProperties>
</file>